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png" ContentType="image/png"/>
  <Override PartName="/ppt/media/image15.gif" ContentType="image/gif"/>
  <Override PartName="/ppt/media/image3.jpeg" ContentType="image/jpeg"/>
  <Override PartName="/ppt/media/image14.gif" ContentType="image/gif"/>
  <Override PartName="/ppt/media/image10.png" ContentType="image/png"/>
  <Override PartName="/ppt/media/image2.jpeg" ContentType="image/jpeg"/>
  <Override PartName="/ppt/media/image1.jpeg" ContentType="image/jpeg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jpeg" ContentType="image/jpe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BB0F-1DE7-4B73-B197-1CFC17E8F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gzsxw.ne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港中数学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gzsxw.ne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港中数学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9800-7C30-4B03-8EF7-7D49522C1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546F-4509-4B06-8A62-08C47116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979F-70C1-46AA-B3E3-2A70DCCB9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246E-455E-4068-AE0F-340BBE1D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AE73-388F-46CD-B5CF-94258F6A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DF50-1FE6-4D41-AC71-DE5FA447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F9B6-9785-450B-882E-45CCF01B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9A6E-D0B8-4986-A9EE-BF7FFB14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467B-6F16-46A4-8B94-E3E86EA1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AC98-316E-43D5-83CC-5EC57D7A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0DEC-CDAB-4BA4-8DAF-15EAE0C4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3BEE-2840-47AA-B6BB-08FE37D0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0D62-2731-40F8-A623-25B843D21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ush.wav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hammer.wav" TargetMode="External"/><Relationship Id="rId2" Type="http://schemas.microsoft.com/office/2007/relationships/media" Target="file:///tmp/home/.config/libreoffice/4/user/gallery/hammer.wav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audio" Target="file:///tmp/home/.config/libreoffice/4/user/gallery/j0214098.wav" TargetMode="External"/><Relationship Id="rId4" Type="http://schemas.microsoft.com/office/2007/relationships/media" Target="file:///tmp/home/.config/libreoffice/4/user/gallery/j0214098.wav" TargetMode="External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ush.wav" TargetMode="External"/><Relationship Id="rId2" Type="http://schemas.openxmlformats.org/officeDocument/2006/relationships/hyperlink" Target="file:///tmp/home/.config/libreoffice/4/user/gallery/push.wav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file:///tmp/home/.config/libreoffice/4/user/gallery/suction.wav" TargetMode="External"/><Relationship Id="rId3" Type="http://schemas.openxmlformats.org/officeDocument/2006/relationships/hyperlink" Target="file:///tmp/home/.config/libreoffice/4/user/gallery/suction.wav" TargetMode="External"/><Relationship Id="rId4" Type="http://schemas.openxmlformats.org/officeDocument/2006/relationships/hyperlink" Target="file:///tmp/home/.config/libreoffice/4/user/gallery/voltage.wav" TargetMode="External"/><Relationship Id="rId5" Type="http://schemas.openxmlformats.org/officeDocument/2006/relationships/hyperlink" Target="file:///tmp/home/.config/libreoffice/4/user/gallery/voltage.wav" TargetMode="External"/><Relationship Id="rId6" Type="http://schemas.openxmlformats.org/officeDocument/2006/relationships/hyperlink" Target="file:///tmp/home/.config/libreoffice/4/user/gallery/suction.wav" TargetMode="Externa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99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>
            <a:hlinkClick r:id="rId1"/>
          </p:cNvPr>
          <p:cNvSpPr/>
          <p:nvPr/>
        </p:nvSpPr>
        <p:spPr>
          <a:xfrm>
            <a:off x="1763640" y="2060640"/>
            <a:ext cx="6096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  <a:ea typeface="华文行楷"/>
              </a:rPr>
              <a:t>3.4.2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华文行楷"/>
              </a:rPr>
              <a:t>销售问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cc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560" y="2209320"/>
            <a:ext cx="8443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某琴行同时卖出两台钢琴，每台售价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6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。其中一台盈利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%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另一台亏损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%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这次琴行是盈利还是亏损，或是不盈不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某文具店有两个进价不同的计算器都卖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4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元，其中一个盈利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0%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另一个亏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0%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次交易中的盈亏情况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26920" y="73980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触类旁通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6" name=""/>
          <p:cNvSpPr/>
          <p:nvPr/>
        </p:nvSpPr>
        <p:spPr>
          <a:xfrm>
            <a:off x="1002960" y="1197000"/>
            <a:ext cx="163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分组探讨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cc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04920" y="228600"/>
            <a:ext cx="2592360" cy="70344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课内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981000"/>
            <a:ext cx="8893080" cy="17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某琴行同时卖出两台钢琴，每台售价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6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。其中一台盈利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%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另一台亏损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%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这次琴行是盈利还是亏损，或是不盈不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2421000"/>
            <a:ext cx="8604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设盈利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%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那台钢琴进价为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元，亏损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%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那台钢琴进价为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元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根据题意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x+0.2x=960         y+(-0.2y)=96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得 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x=800        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得 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y=1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所以两台钢琴进价为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00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元，而售价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920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元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进价大于售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因此两台钢琴总的盈利情况为亏本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8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9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7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cc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某文具店有两个进价不同的计算器都卖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，其中一个盈利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0%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另一个亏本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%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次交易中的盈亏情况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2371680"/>
            <a:ext cx="8028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设盈利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0%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那个计算器进价为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元，亏本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%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那个计算器进价为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Y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元，根据题意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X+0.6X=64         Y+(–0.2Y)=6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得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X=40            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得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Y=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所以两个计算器进价为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元，而售价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元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进价小于售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因此两个计算器总的盈利情况为盈利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元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46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Arial"/>
                <a:ea typeface="隶书"/>
              </a:rPr>
              <a:t>请再做一做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  <a:ea typeface="隶书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7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2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7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2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7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2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cc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304920"/>
            <a:ext cx="3657600" cy="685800"/>
          </a:xfrm>
          <a:prstGeom prst="flowChartPredefinedProcess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小试牛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15696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、某商场把进价为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1980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元的商品按标价的八折出售，仍获利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10%,  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则该商品的标价为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元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2997360"/>
            <a:ext cx="746748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解：设该商品的标价</a:t>
            </a: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元，根据题意，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          </a:t>
            </a: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0.8 X =1980 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1+10%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解这个方程，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 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X=2725</a:t>
            </a: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 rot="356400">
            <a:off x="4495680" y="456840"/>
            <a:ext cx="40388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变式训练  巩固新知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8" name=""/>
          <p:cNvSpPr/>
          <p:nvPr/>
        </p:nvSpPr>
        <p:spPr>
          <a:xfrm>
            <a:off x="611280" y="5877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Black"/>
              </a:rPr>
              <a:t>答：设该商品的标价为</a:t>
            </a: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2725</a:t>
            </a:r>
            <a:r>
              <a:rPr b="1" lang="zh-CN" sz="3600" spc="-1" strike="noStrike">
                <a:solidFill>
                  <a:srgbClr val="ff0000"/>
                </a:solidFill>
                <a:latin typeface="Arial Black"/>
              </a:rPr>
              <a:t>元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8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6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567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0" dur="4745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cc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" y="2362320"/>
            <a:ext cx="79246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解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: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设在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2005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年涨价前的价格为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元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根据题意，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1+0.3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 Black"/>
              </a:rPr>
              <a:t>－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0.7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x=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解这个方程，得　 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x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796000" y="4149720"/>
            <a:ext cx="904680" cy="10047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22860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、我国政府为解决老百姓看病难的问题，决定下调药品的价格，某种药品在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2005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年涨价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30%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后，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2007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降价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70%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至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元，则这种药品在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2005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年涨价前价格为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元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28600" y="5486400"/>
            <a:ext cx="7543800" cy="1144080"/>
            <a:chOff x="228600" y="5486400"/>
            <a:chExt cx="7543800" cy="1144080"/>
          </a:xfrm>
        </p:grpSpPr>
        <p:sp>
          <p:nvSpPr>
            <p:cNvPr id="163" name=""/>
            <p:cNvSpPr/>
            <p:nvPr/>
          </p:nvSpPr>
          <p:spPr>
            <a:xfrm>
              <a:off x="228600" y="5561640"/>
              <a:ext cx="7543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 Black"/>
                </a:rPr>
                <a:t>答：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在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2005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年涨价前的价格为　　元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 Black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2"/>
            <a:stretch/>
          </p:blipFill>
          <p:spPr>
            <a:xfrm>
              <a:off x="5791320" y="5486400"/>
              <a:ext cx="784080" cy="838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5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788508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1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602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5" dur="4745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cc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413080" y="1191960"/>
            <a:ext cx="1727280" cy="1019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lin ang="13500000"/>
          </a:gra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27200" y="1125000"/>
            <a:ext cx="182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小结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55640" y="2303280"/>
            <a:ext cx="7561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通过本节课的学习你有哪些收获？你还有哪些疑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84360" y="571680"/>
            <a:ext cx="1666800" cy="16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cc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247680"/>
            <a:ext cx="813600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247680"/>
            <a:ext cx="0" cy="57456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26680" y="3888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  <a:ea typeface="幼圆"/>
              </a:rPr>
              <a:t>熟记下列关系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54200" y="1343160"/>
            <a:ext cx="56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411280" y="981000"/>
            <a:ext cx="5832360" cy="1081080"/>
            <a:chOff x="2411280" y="981000"/>
            <a:chExt cx="5832360" cy="1081080"/>
          </a:xfrm>
        </p:grpSpPr>
        <p:sp>
          <p:nvSpPr>
            <p:cNvPr id="175" name=""/>
            <p:cNvSpPr/>
            <p:nvPr/>
          </p:nvSpPr>
          <p:spPr>
            <a:xfrm>
              <a:off x="2411280" y="981000"/>
              <a:ext cx="5832360" cy="1081080"/>
            </a:xfrm>
            <a:prstGeom prst="flowChartAlternateProcess">
              <a:avLst/>
            </a:prstGeom>
            <a:solidFill>
              <a:srgbClr val="ffff99"/>
            </a:solidFill>
            <a:ln w="1908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隶书"/>
                  <a:ea typeface="隶书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14920" y="1487520"/>
              <a:ext cx="35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宋体"/>
                </a:rPr>
                <a:t>= </a:t>
              </a:r>
              <a:r>
                <a:rPr b="1" lang="zh-CN" sz="2400" spc="-1" strike="noStrike">
                  <a:solidFill>
                    <a:srgbClr val="0000cc"/>
                  </a:solidFill>
                  <a:latin typeface="宋体"/>
                </a:rPr>
                <a:t>商品售价—商品进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00360" y="1054080"/>
              <a:ext cx="39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●</a:t>
              </a:r>
              <a:r>
                <a:rPr b="1" lang="zh-CN" sz="2000" spc="-1" strike="noStrike">
                  <a:solidFill>
                    <a:srgbClr val="0000cc"/>
                  </a:solidFill>
                  <a:latin typeface="Times New Roman"/>
                </a:rPr>
                <a:t>售价、进价、利润的关系式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419280" y="148752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宋体"/>
                </a:rPr>
                <a:t>商品</a:t>
              </a: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</a:rPr>
                <a:t>利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411280" y="2206800"/>
            <a:ext cx="5832360" cy="1223640"/>
            <a:chOff x="2411280" y="2206800"/>
            <a:chExt cx="5832360" cy="1223640"/>
          </a:xfrm>
        </p:grpSpPr>
        <p:sp>
          <p:nvSpPr>
            <p:cNvPr id="180" name=""/>
            <p:cNvSpPr/>
            <p:nvPr/>
          </p:nvSpPr>
          <p:spPr>
            <a:xfrm>
              <a:off x="2411280" y="2206800"/>
              <a:ext cx="5832360" cy="1223640"/>
            </a:xfrm>
            <a:prstGeom prst="flowChartAlternateProcess">
              <a:avLst/>
            </a:prstGeom>
            <a:solidFill>
              <a:srgbClr val="ffff99"/>
            </a:solidFill>
            <a:ln w="1908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隶书"/>
                  <a:ea typeface="隶书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70200" y="2206800"/>
              <a:ext cx="532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●</a:t>
              </a:r>
              <a:r>
                <a:rPr b="1" lang="zh-CN" sz="2000" spc="-1" strike="noStrike">
                  <a:solidFill>
                    <a:srgbClr val="0000cc"/>
                  </a:solidFill>
                  <a:latin typeface="Times New Roman"/>
                </a:rPr>
                <a:t>进价、利润、利润率的关系</a:t>
              </a:r>
              <a:r>
                <a:rPr b="1" lang="zh-CN" sz="2000" spc="-1" strike="noStrike">
                  <a:solidFill>
                    <a:srgbClr val="0000cc"/>
                  </a:solidFill>
                  <a:latin typeface="Times New Roman"/>
                  <a:ea typeface="隶书"/>
                </a:rPr>
                <a:t>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65360" y="2685960"/>
              <a:ext cx="197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</a:rPr>
                <a:t>利润率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87640" y="2901600"/>
              <a:ext cx="15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商品进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87640" y="2495520"/>
              <a:ext cx="204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</a:rPr>
                <a:t>商品利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27640" y="2711160"/>
              <a:ext cx="144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×10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14920" y="2927160"/>
              <a:ext cx="158400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411280" y="3575160"/>
            <a:ext cx="5832360" cy="1224000"/>
            <a:chOff x="2411280" y="3575160"/>
            <a:chExt cx="5832360" cy="1224000"/>
          </a:xfrm>
        </p:grpSpPr>
        <p:sp>
          <p:nvSpPr>
            <p:cNvPr id="188" name=""/>
            <p:cNvSpPr/>
            <p:nvPr/>
          </p:nvSpPr>
          <p:spPr>
            <a:xfrm>
              <a:off x="2411280" y="3575160"/>
              <a:ext cx="5832360" cy="1224000"/>
            </a:xfrm>
            <a:prstGeom prst="flowChartAlternateProcess">
              <a:avLst/>
            </a:prstGeom>
            <a:solidFill>
              <a:srgbClr val="ffff99"/>
            </a:solidFill>
            <a:ln w="1908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隶书"/>
                  <a:ea typeface="隶书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770200" y="3575160"/>
              <a:ext cx="3889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●</a:t>
              </a:r>
              <a:r>
                <a:rPr b="1" lang="zh-CN" sz="2000" spc="-1" strike="noStrike">
                  <a:solidFill>
                    <a:srgbClr val="0000cc"/>
                  </a:solidFill>
                  <a:latin typeface="Arial"/>
                </a:rPr>
                <a:t>标价、折扣数、商品售价关系 </a:t>
              </a: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90920" y="4006800"/>
              <a:ext cx="180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商品售价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5280" y="4006800"/>
              <a:ext cx="1223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标价</a:t>
              </a: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1640" y="3862440"/>
              <a:ext cx="1297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折扣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83280" y="4295880"/>
              <a:ext cx="107928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70560" y="4295880"/>
              <a:ext cx="7207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2482920" y="4941720"/>
            <a:ext cx="5761080" cy="1006560"/>
            <a:chOff x="2482920" y="4941720"/>
            <a:chExt cx="5761080" cy="1006560"/>
          </a:xfrm>
        </p:grpSpPr>
        <p:sp>
          <p:nvSpPr>
            <p:cNvPr id="196" name=""/>
            <p:cNvSpPr/>
            <p:nvPr/>
          </p:nvSpPr>
          <p:spPr>
            <a:xfrm>
              <a:off x="2482920" y="4941720"/>
              <a:ext cx="5761080" cy="1006560"/>
            </a:xfrm>
            <a:prstGeom prst="flowChartAlternateProcess">
              <a:avLst/>
            </a:prstGeom>
            <a:solidFill>
              <a:srgbClr val="ffff99"/>
            </a:solidFill>
            <a:ln w="1908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隶书"/>
                  <a:ea typeface="隶书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770200" y="4941720"/>
              <a:ext cx="424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●</a:t>
              </a:r>
              <a:r>
                <a:rPr b="1" lang="zh-CN" sz="2000" spc="-1" strike="noStrike">
                  <a:solidFill>
                    <a:srgbClr val="0000cc"/>
                  </a:solidFill>
                  <a:latin typeface="Arial"/>
                </a:rPr>
                <a:t>商品售价、进价、利润率的关系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43640" y="5379840"/>
              <a:ext cx="15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商品进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74920" y="5406840"/>
              <a:ext cx="165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商品售价</a:t>
              </a: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69080" y="5373360"/>
              <a:ext cx="20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×(1+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利润率</a:t>
              </a: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38120" y="3645000"/>
            <a:ext cx="175752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0"/>
                            </p:stCondLst>
                            <p:childTnLst>
                              <p:par>
                                <p:cTn id="6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cc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39640" y="1306440"/>
            <a:ext cx="76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 Black"/>
              </a:rPr>
              <a:t>某商品的进价是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1000</a:t>
            </a:r>
            <a:r>
              <a:rPr b="1" lang="zh-CN" sz="2400" spc="-1" strike="noStrike">
                <a:solidFill>
                  <a:srgbClr val="333399"/>
                </a:solidFill>
                <a:latin typeface="Arial Black"/>
              </a:rPr>
              <a:t>元，售价是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1500</a:t>
            </a:r>
            <a:r>
              <a:rPr b="1" lang="zh-CN" sz="2400" spc="-1" strike="noStrike">
                <a:solidFill>
                  <a:srgbClr val="333399"/>
                </a:solidFill>
                <a:latin typeface="Arial Black"/>
              </a:rPr>
              <a:t>元，由于销售情况不好，商店决定降价出售，但又要保证利润率不低于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5%,</a:t>
            </a:r>
            <a:r>
              <a:rPr b="1" lang="zh-CN" sz="2400" spc="-1" strike="noStrike">
                <a:solidFill>
                  <a:srgbClr val="333399"/>
                </a:solidFill>
                <a:latin typeface="Arial Black"/>
              </a:rPr>
              <a:t>那么商店最多可打几折出售此商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rId1"/>
          </p:cNvPr>
          <p:cNvSpPr/>
          <p:nvPr/>
        </p:nvSpPr>
        <p:spPr>
          <a:xfrm>
            <a:off x="5410080" y="0"/>
            <a:ext cx="327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琥珀"/>
              </a:rPr>
              <a:t>大展身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574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 Blac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2"/>
          </p:cNvPr>
          <p:cNvSpPr/>
          <p:nvPr/>
        </p:nvSpPr>
        <p:spPr>
          <a:xfrm>
            <a:off x="0" y="22860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2" marL="1108440" indent="-22140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彩云"/>
              </a:rPr>
              <a:t>思考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314880" y="3078000"/>
            <a:ext cx="2857320" cy="347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你一定能行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!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cc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解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设商店最多可以打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x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折出售此商品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根据题意，得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758960" y="3429000"/>
            <a:ext cx="497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5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x/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1000(1+5%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55480" y="4218120"/>
            <a:ext cx="206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解得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x=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51055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商店最多可以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折出售此商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5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7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2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1835280" y="907920"/>
            <a:ext cx="3024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9999"/>
                </a:solidFill>
                <a:effectLst>
                  <a:outerShdw dist="153753" dir="2700000" blurRad="0" rotWithShape="0">
                    <a:srgbClr val="875b0d">
                      <a:alpha val="69000"/>
                    </a:srgbClr>
                  </a:outerShdw>
                </a:effectLst>
                <a:latin typeface="宋体"/>
              </a:rPr>
              <a:t>布置作业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9999"/>
              </a:solidFill>
              <a:effectLst>
                <a:outerShdw dist="153753" dir="2700000" blurRad="0" rotWithShape="0">
                  <a:srgbClr val="875b0d">
                    <a:alpha val="6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4" name=""/>
          <p:cNvSpPr/>
          <p:nvPr/>
        </p:nvSpPr>
        <p:spPr>
          <a:xfrm>
            <a:off x="1752480" y="2778120"/>
            <a:ext cx="397188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108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2. 3.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36880" y="1600200"/>
            <a:ext cx="32688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997440" y="0"/>
            <a:ext cx="514656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00720" cy="3478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181480" y="380880"/>
            <a:ext cx="2016360" cy="1584360"/>
          </a:xfrm>
          <a:prstGeom prst="irregularSeal1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跳楼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52280"/>
            <a:ext cx="2962440" cy="1933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  <a:ea typeface="方正舒体"/>
              </a:rPr>
              <a:t>清仓处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81480" y="3933720"/>
            <a:ext cx="3962520" cy="213372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华文彩云"/>
              </a:rPr>
              <a:t>满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彩云"/>
              </a:rPr>
              <a:t>200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华文彩云"/>
              </a:rPr>
              <a:t>返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彩云"/>
              </a:rPr>
              <a:t>1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0" y="3483000"/>
            <a:ext cx="4500720" cy="3375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19320" y="4114800"/>
            <a:ext cx="3024000" cy="165564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折酬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99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>
            <a:hlinkClick r:id="" action="ppaction://hlinkshowjump?jump=nextslide"/>
            <a:hlinkClick r:id="rId1"/>
          </p:cNvPr>
          <p:cNvSpPr/>
          <p:nvPr/>
        </p:nvSpPr>
        <p:spPr>
          <a:xfrm>
            <a:off x="228600" y="0"/>
            <a:ext cx="2743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333399"/>
                </a:solidFill>
                <a:latin typeface="Arial"/>
                <a:ea typeface="隶书"/>
              </a:rPr>
              <a:t>知识探究  课前热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562720" y="6172200"/>
            <a:ext cx="3581280" cy="685800"/>
            <a:chOff x="5562720" y="6172200"/>
            <a:chExt cx="3581280" cy="685800"/>
          </a:xfrm>
        </p:grpSpPr>
        <p:sp>
          <p:nvSpPr>
            <p:cNvPr id="60" name=""/>
            <p:cNvSpPr/>
            <p:nvPr/>
          </p:nvSpPr>
          <p:spPr>
            <a:xfrm>
              <a:off x="5562720" y="6219720"/>
              <a:ext cx="2362320" cy="45972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我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,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我进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43800" y="6210360"/>
              <a:ext cx="29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7925040" y="6172200"/>
              <a:ext cx="12189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>
              <a:hlinkClick r:id="" action="ppaction://hlinkshowjump?jump=lastslide"/>
            </p:cNvPr>
            <p:cNvPicPr/>
            <p:nvPr/>
          </p:nvPicPr>
          <p:blipFill>
            <a:blip r:embed="rId3"/>
            <a:stretch/>
          </p:blipFill>
          <p:spPr>
            <a:xfrm>
              <a:off x="5562720" y="6324480"/>
              <a:ext cx="53352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"/>
          <p:cNvSpPr/>
          <p:nvPr/>
        </p:nvSpPr>
        <p:spPr>
          <a:xfrm>
            <a:off x="380880" y="76140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探究销售中的盈亏问题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2084400"/>
            <a:ext cx="8459640" cy="32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商品原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，九折出售，卖价是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商品进价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，售价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，则利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利润率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某商品原来每件零售价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在每件降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%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价后每件零售价是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　　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某种品牌的彩电降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后，每台售价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，则该品牌彩电每台原价应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　    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某商品按定价的八折出售，售价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，则原定售价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　　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</a:rPr>
              <a:t>　</a:t>
            </a:r>
            <a:r>
              <a:rPr b="1" lang="zh-CN" sz="3200" spc="-1" strike="noStrike">
                <a:solidFill>
                  <a:srgbClr val="00ff00"/>
                </a:solidFill>
                <a:latin typeface="宋体"/>
              </a:rPr>
              <a:t>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cc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47920" cy="1143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44240" y="277920"/>
            <a:ext cx="28242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思考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上面商品销售中的盈亏问题里有哪些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2"/>
          </p:cNvPr>
          <p:cNvSpPr/>
          <p:nvPr/>
        </p:nvSpPr>
        <p:spPr>
          <a:xfrm>
            <a:off x="755640" y="191556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 Black"/>
              </a:rPr>
              <a:t>成本价</a:t>
            </a:r>
            <a:r>
              <a:rPr b="1" lang="en-US" sz="4000" spc="-1" strike="noStrike">
                <a:solidFill>
                  <a:srgbClr val="ff0066"/>
                </a:solidFill>
                <a:latin typeface="Arial Black"/>
              </a:rPr>
              <a:t>(</a:t>
            </a:r>
            <a:r>
              <a:rPr b="1" lang="zh-CN" sz="4000" spc="-1" strike="noStrike">
                <a:solidFill>
                  <a:srgbClr val="ff0066"/>
                </a:solidFill>
                <a:latin typeface="Arial Black"/>
              </a:rPr>
              <a:t>进价</a:t>
            </a:r>
            <a:r>
              <a:rPr b="1" lang="en-US" sz="4000" spc="-1" strike="noStrike">
                <a:solidFill>
                  <a:srgbClr val="ff0066"/>
                </a:solidFill>
                <a:latin typeface="Arial Black"/>
              </a:rPr>
              <a:t>)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3"/>
          </p:cNvPr>
          <p:cNvSpPr/>
          <p:nvPr/>
        </p:nvSpPr>
        <p:spPr>
          <a:xfrm>
            <a:off x="3924360" y="161064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标价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;</a:t>
            </a:r>
            <a:r>
              <a:rPr b="1" lang="en-US" sz="4000" spc="-1" strike="noStrike">
                <a:solidFill>
                  <a:srgbClr val="00ff00"/>
                </a:solidFill>
                <a:latin typeface="Arial Black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4"/>
          </p:cNvPr>
          <p:cNvSpPr/>
          <p:nvPr/>
        </p:nvSpPr>
        <p:spPr>
          <a:xfrm>
            <a:off x="5724360" y="191556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销售价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;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5"/>
          </p:cNvPr>
          <p:cNvSpPr/>
          <p:nvPr/>
        </p:nvSpPr>
        <p:spPr>
          <a:xfrm>
            <a:off x="684360" y="278064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利润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;    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盈利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;    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亏损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6"/>
          </p:cNvPr>
          <p:cNvSpPr/>
          <p:nvPr/>
        </p:nvSpPr>
        <p:spPr>
          <a:xfrm>
            <a:off x="5867280" y="2707560"/>
            <a:ext cx="1981440" cy="703440"/>
          </a:xfrm>
          <a:prstGeom prst="rect">
            <a:avLst/>
          </a:prstGeom>
          <a:solidFill>
            <a:srgbClr val="1a45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 Black"/>
              </a:rPr>
              <a:t>利润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4360" y="3645000"/>
            <a:ext cx="5562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对上面这些量有何关系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348000" y="4005360"/>
            <a:ext cx="468468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大家想一想！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cc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828800" y="2286000"/>
            <a:ext cx="6119640" cy="1224000"/>
          </a:xfrm>
          <a:prstGeom prst="flowChartAlternateProcess">
            <a:avLst/>
          </a:prstGeom>
          <a:solidFill>
            <a:srgbClr val="ffff99"/>
          </a:solidFill>
          <a:ln w="19080">
            <a:solidFill>
              <a:srgbClr val="ff66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隶书"/>
                <a:ea typeface="隶书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1066680"/>
            <a:ext cx="6119640" cy="1081080"/>
          </a:xfrm>
          <a:prstGeom prst="flowChartAlternateProcess">
            <a:avLst/>
          </a:prstGeom>
          <a:solidFill>
            <a:srgbClr val="ffff99"/>
          </a:solidFill>
          <a:ln w="19080">
            <a:solidFill>
              <a:srgbClr val="ff66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隶书"/>
                <a:ea typeface="隶书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627280" y="1414440"/>
            <a:ext cx="56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29000" y="16002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= 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商品售价—商品进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1143000"/>
            <a:ext cx="39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售价、进价、利润的关系式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7400" y="16002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商品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利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28600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进价、利润、利润率的关系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  <a:ea typeface="隶书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0" y="274320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利润率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29718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商品进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259092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商品利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27432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×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2971800"/>
            <a:ext cx="158436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3657600"/>
            <a:ext cx="6119640" cy="1224000"/>
          </a:xfrm>
          <a:prstGeom prst="flowChartAlternateProcess">
            <a:avLst/>
          </a:prstGeom>
          <a:solidFill>
            <a:srgbClr val="ffff99"/>
          </a:solidFill>
          <a:ln w="19080">
            <a:solidFill>
              <a:srgbClr val="ff66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隶书"/>
                <a:ea typeface="隶书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5029200"/>
            <a:ext cx="6048360" cy="934920"/>
          </a:xfrm>
          <a:prstGeom prst="flowChartAlternateProcess">
            <a:avLst/>
          </a:prstGeom>
          <a:solidFill>
            <a:srgbClr val="ffff99"/>
          </a:solidFill>
          <a:ln w="19080">
            <a:solidFill>
              <a:srgbClr val="ff66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隶书"/>
                <a:ea typeface="隶书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3657600"/>
            <a:ext cx="3889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标价、折扣数、商品售价关系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4114800"/>
            <a:ext cx="18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商品售价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33920" y="4114800"/>
            <a:ext cx="122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标价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24280" y="3962520"/>
            <a:ext cx="129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折扣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4343400"/>
            <a:ext cx="107964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4343400"/>
            <a:ext cx="720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5029200"/>
            <a:ext cx="424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商品售价、进价、利润率的关系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535932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商品进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541008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商品售价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00600" y="53722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×(1+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利润率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1143000"/>
            <a:ext cx="1079640" cy="4680000"/>
          </a:xfrm>
          <a:prstGeom prst="flowChartAlternateProcess">
            <a:avLst/>
          </a:prstGeom>
          <a:solidFill>
            <a:srgbClr val="ffff99"/>
          </a:solidFill>
          <a:ln w="19080">
            <a:solidFill>
              <a:srgbClr val="ff66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隶书"/>
                <a:ea typeface="隶书"/>
              </a:rPr>
              <a:t>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隶书"/>
                <a:ea typeface="隶书"/>
              </a:rPr>
              <a:t>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隶书"/>
                <a:ea typeface="隶书"/>
              </a:rPr>
              <a:t>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隶书"/>
                <a:ea typeface="隶书"/>
              </a:rPr>
              <a:t>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隶书"/>
                <a:ea typeface="隶书"/>
              </a:rPr>
              <a:t>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隶书"/>
                <a:ea typeface="隶书"/>
              </a:rPr>
              <a:t>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232760" y="5715000"/>
            <a:ext cx="1911240" cy="1143000"/>
            <a:chOff x="7232760" y="5715000"/>
            <a:chExt cx="1911240" cy="114300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7232760" y="5715000"/>
              <a:ext cx="191124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556760" y="6173640"/>
              <a:ext cx="104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0000"/>
                  </a:solidFill>
                  <a:latin typeface="Times New Roman"/>
                </a:rPr>
                <a:t>驶向胜利的彼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20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200"/>
                            </p:stCondLst>
                            <p:childTnLst>
                              <p:par>
                                <p:cTn id="1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200"/>
                            </p:stCondLst>
                            <p:childTnLst>
                              <p:par>
                                <p:cTn id="2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200"/>
                            </p:stCondLst>
                            <p:childTnLst>
                              <p:par>
                                <p:cTn id="2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cc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52360" y="1576800"/>
            <a:ext cx="41036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某商店在某一时间以每件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60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的价格卖出两件衣服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中一件盈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25﹪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另一件亏损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25﹪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卖这两件衣服总的是盈利还是亏损，或是不盈不亏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95280" y="3933720"/>
            <a:ext cx="1655640" cy="2016360"/>
            <a:chOff x="395280" y="3933720"/>
            <a:chExt cx="1655640" cy="2016360"/>
          </a:xfrm>
        </p:grpSpPr>
        <p:sp>
          <p:nvSpPr>
            <p:cNvPr id="106" name=""/>
            <p:cNvSpPr/>
            <p:nvPr/>
          </p:nvSpPr>
          <p:spPr>
            <a:xfrm>
              <a:off x="395280" y="3933720"/>
              <a:ext cx="1655640" cy="2016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1"/>
            <a:srcRect l="41397" t="0" r="22191" b="0"/>
            <a:stretch/>
          </p:blipFill>
          <p:spPr>
            <a:xfrm>
              <a:off x="509400" y="4053600"/>
              <a:ext cx="1419840" cy="175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"/>
          <p:cNvGrpSpPr/>
          <p:nvPr/>
        </p:nvGrpSpPr>
        <p:grpSpPr>
          <a:xfrm>
            <a:off x="2340000" y="3933720"/>
            <a:ext cx="1655640" cy="2014560"/>
            <a:chOff x="2340000" y="3933720"/>
            <a:chExt cx="1655640" cy="2014560"/>
          </a:xfrm>
        </p:grpSpPr>
        <p:sp>
          <p:nvSpPr>
            <p:cNvPr id="109" name=""/>
            <p:cNvSpPr/>
            <p:nvPr/>
          </p:nvSpPr>
          <p:spPr>
            <a:xfrm>
              <a:off x="2340000" y="3933720"/>
              <a:ext cx="1655640" cy="20145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2458800" y="4078080"/>
              <a:ext cx="1418040" cy="172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"/>
          <p:cNvSpPr/>
          <p:nvPr/>
        </p:nvSpPr>
        <p:spPr>
          <a:xfrm>
            <a:off x="900000" y="6021360"/>
            <a:ext cx="503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16360" y="6021360"/>
            <a:ext cx="503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11640" y="1052640"/>
            <a:ext cx="0" cy="57610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27640" y="1341360"/>
            <a:ext cx="4321080" cy="459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lin ang="13500000"/>
          </a:gra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7575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华文中宋"/>
              </a:rPr>
              <a:t>想一想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  <a:ea typeface="华文中宋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1828800"/>
            <a:ext cx="4465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这一问题情境中有哪些已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量</a:t>
            </a:r>
            <a:r>
              <a:rPr b="0" lang="en-US" sz="2400" spc="-1" strike="noStrike">
                <a:solidFill>
                  <a:srgbClr val="663300"/>
                </a:solidFill>
                <a:latin typeface="黑体"/>
                <a:ea typeface="黑体"/>
              </a:rPr>
              <a:t>?</a:t>
            </a:r>
            <a:r>
              <a:rPr b="0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哪些未知量</a:t>
            </a:r>
            <a:r>
              <a:rPr b="0" lang="en-US" sz="2400" spc="-1" strike="noStrike">
                <a:solidFill>
                  <a:srgbClr val="663300"/>
                </a:solidFill>
                <a:latin typeface="黑体"/>
                <a:ea typeface="黑体"/>
              </a:rPr>
              <a:t>?</a:t>
            </a:r>
            <a:r>
              <a:rPr b="0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如何设未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数</a:t>
            </a:r>
            <a:r>
              <a:rPr b="0" lang="en-US" sz="2400" spc="-1" strike="noStrike">
                <a:solidFill>
                  <a:srgbClr val="663300"/>
                </a:solidFill>
                <a:latin typeface="黑体"/>
                <a:ea typeface="黑体"/>
              </a:rPr>
              <a:t>?</a:t>
            </a:r>
            <a:r>
              <a:rPr b="0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相等关系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663300"/>
                </a:solidFill>
                <a:latin typeface="黑体"/>
                <a:ea typeface="黑体"/>
              </a:rPr>
              <a:t>如何判断是盈是亏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771640" y="115920"/>
            <a:ext cx="3672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00ff">
                    <a:alpha val="74000"/>
                  </a:srgbClr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探索乐园</a:t>
            </a:r>
            <a:endParaRPr b="0" lang="en-US" sz="1800" spc="-1" strike="noStrike">
              <a:ln w="0">
                <a:noFill/>
              </a:ln>
              <a:solidFill>
                <a:srgbClr val="ff00ff">
                  <a:alpha val="74000"/>
                </a:srgbClr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cc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9640" y="1181520"/>
            <a:ext cx="81010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销售中的盈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某商店在某一时间以每件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元的价格卖出两件衣服，其中一件盈利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25%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，另一件亏损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25%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，卖这两件衣服总的是盈利还是亏损，或是不盈不亏？　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400464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分析：</a:t>
            </a:r>
            <a:r>
              <a:rPr b="1" lang="zh-CN" sz="3600" spc="-1" strike="noStrike">
                <a:solidFill>
                  <a:srgbClr val="ff0000"/>
                </a:solidFill>
                <a:latin typeface="Arial Black"/>
              </a:rPr>
              <a:t>售价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进价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利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920000" y="5945040"/>
            <a:ext cx="1224000" cy="912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6012000" y="6066000"/>
            <a:ext cx="194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cc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9000"/>
                    </a:srgbClr>
                  </a:outerShdw>
                </a:effectLst>
                <a:latin typeface="楷体_GB2312"/>
              </a:rPr>
              <a:t>合作学习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cc00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9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22" name=""/>
          <p:cNvSpPr/>
          <p:nvPr/>
        </p:nvSpPr>
        <p:spPr>
          <a:xfrm>
            <a:off x="1979640" y="479736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Black"/>
              </a:rPr>
              <a:t>售价</a:t>
            </a: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=(1+</a:t>
            </a:r>
            <a:r>
              <a:rPr b="1" lang="zh-CN" sz="3600" spc="-1" strike="noStrike">
                <a:solidFill>
                  <a:srgbClr val="ff0000"/>
                </a:solidFill>
                <a:latin typeface="Arial Black"/>
              </a:rPr>
              <a:t>利润率</a:t>
            </a: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)</a:t>
            </a: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×</a:t>
            </a:r>
            <a:r>
              <a:rPr b="1" lang="zh-CN" sz="3600" spc="-1" strike="noStrike">
                <a:solidFill>
                  <a:srgbClr val="ff0000"/>
                </a:solidFill>
                <a:latin typeface="Arial Black"/>
              </a:rPr>
              <a:t>进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0"/>
            <a:ext cx="1066680" cy="762120"/>
          </a:xfrm>
          <a:prstGeom prst="smileyFace">
            <a:avLst>
              <a:gd name="adj" fmla="val 4653"/>
            </a:avLst>
          </a:prstGeom>
          <a:gradFill rotWithShape="0">
            <a:gsLst>
              <a:gs pos="0">
                <a:srgbClr val="ffffcc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cc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940360" y="380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63640" y="838080"/>
            <a:ext cx="114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0.25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93840" y="1268280"/>
            <a:ext cx="3962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x + 0.25x =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93800" y="177336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51640" y="22050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256536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0.25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78240" y="306864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y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0.25y=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00360" y="36450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00720" y="400536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48+80=1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51280" y="450864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60×2=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40000" y="501336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8064720" cy="58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分析</a:t>
            </a:r>
            <a:r>
              <a:rPr b="0" lang="zh-CN" sz="2800" spc="-1" strike="noStrike">
                <a:solidFill>
                  <a:srgbClr val="333399"/>
                </a:solidFill>
                <a:latin typeface="宋体"/>
              </a:rPr>
              <a:t>：①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设盈利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25%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衣服的进价是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宋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元，则商品利润是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元；依题意列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由此得  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x =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    ②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设亏损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25%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衣服的进价是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宋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元，则商品亏损是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元；依题意列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由此得  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y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两件衣服的进价是 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x+y=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两件衣服的售价是 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因为 进价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售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所以可知卖这两件衣服总的盈亏情况是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32720" y="5445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隶书"/>
              </a:rPr>
              <a:t>亏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cc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28944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解：设盈利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25%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的那件衣服的进价是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元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另一          件的进价为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元，依题意，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97440" y="1523160"/>
            <a:ext cx="24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x+0.25x=60</a:t>
            </a:r>
            <a:r>
              <a:rPr b="0" lang="en-US" sz="3200" spc="-1" strike="noStrike">
                <a:solidFill>
                  <a:srgbClr val="00ff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76440" y="2275560"/>
            <a:ext cx="19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Black"/>
              </a:rPr>
              <a:t>解得 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x=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02840" y="3140640"/>
            <a:ext cx="254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y</a:t>
            </a:r>
            <a:r>
              <a:rPr b="0" lang="zh-CN" sz="3200" spc="-1" strike="noStrike">
                <a:solidFill>
                  <a:srgbClr val="ff0066"/>
                </a:solidFill>
                <a:latin typeface="Arial Black"/>
              </a:rPr>
              <a:t>－</a:t>
            </a: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0.25y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94720" y="3788640"/>
            <a:ext cx="219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 Black"/>
              </a:rPr>
              <a:t>解得     </a:t>
            </a: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y=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00160" y="4580640"/>
            <a:ext cx="62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总的盈亏</a:t>
            </a:r>
            <a:r>
              <a:rPr b="0" lang="zh-CN" sz="3200" spc="-1" strike="noStrike">
                <a:solidFill>
                  <a:srgbClr val="000000"/>
                </a:solidFill>
                <a:latin typeface="Arial Black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Arial Black"/>
              </a:rPr>
              <a:t>(60+60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 Black"/>
              </a:rPr>
              <a:t>4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Arial Black"/>
              </a:rPr>
              <a:t>80)=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 Black"/>
              </a:rPr>
              <a:t>8(</a:t>
            </a:r>
            <a:r>
              <a:rPr b="0" lang="zh-CN" sz="3200" spc="-1" strike="noStrike">
                <a:solidFill>
                  <a:srgbClr val="000000"/>
                </a:solidFill>
                <a:latin typeface="Arial Black"/>
              </a:rPr>
              <a:t>元</a:t>
            </a:r>
            <a:r>
              <a:rPr b="0" lang="zh-CN" sz="32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537264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答：卖这两件衣服总的亏损了</a:t>
            </a: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3:15:31Z</dcterms:created>
  <dc:creator>雨林木风</dc:creator>
  <dc:description/>
  <cp:keywords/>
  <dc:language>en-US</dc:language>
  <cp:lastModifiedBy>微软用户</cp:lastModifiedBy>
  <dcterms:modified xsi:type="dcterms:W3CDTF">2014-06-30T01:14:15Z</dcterms:modified>
  <cp:revision>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